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7CD-B93B-446B-9385-6D12569C0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264C-29DC-45A3-A3D8-444ABE93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A443-0DEE-4EE5-8090-16307DA3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47E-7E94-45FC-88D0-ED52B8E9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58BE-2E16-48BE-A2D2-80CCED4A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3EC-56C1-48A7-9489-864185ED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84C-B422-4E58-A1DC-AA459F924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7D2-B7C9-413F-BAA7-2C9552C3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C51-009B-4FB8-943F-075678E7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A09-B12E-4F9D-8F1E-86BF1432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300E-4C63-44E3-BED1-6FDF2E82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321-B664-4BBE-8DA1-781EBC1F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24610B7-928D-4E1E-9BCD-2F2D71FB2E4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0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6005520"/>
            <a:ext cx="9144000" cy="852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7934D39-F5EF-4FF4-8C38-540D8F1B06A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1E0DE2E-732B-41AD-9B73-920E809F35E1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13520"/>
            <a:ext cx="876600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6:  Worksheets with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nditional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Format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ables you to apply formats in a cell when the data in the cell meet conditions you spe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pply conditional formatting to change the font color and cell fill color to identify certain cells that have final values that are above, below, or equal to a specific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9B6CE18-49FE-4669-9AA6-1BB93BB428F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nditional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286FAD5-0E53-4047-BACF-1A7FBACBA69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271520" y="1744560"/>
            <a:ext cx="70167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r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 you to show information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 &amp; Bar chart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s across categori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ow how much each value is of a tot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482930C-0890-4DDF-A12D-C3499638FDA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9120" y="1774440"/>
            <a:ext cx="8393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 tit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ies the chart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y ax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x-axis is used to plot categories of data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ax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y-axis is used to associate values with the categories you created (vert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23B97D0-D75F-4715-A14C-A1B13E9A29D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points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rs, columns, or pie slices that represent the numerical data in a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lines through a chart that help identify points on the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e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key used to identify the chart’s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C2BFDCD-CE5D-436F-ABAF-2E5A16A9A0E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8BCEEA0-42D5-4FF9-9F9F-38A0DB7B244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60240" y="2109960"/>
            <a:ext cx="8153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e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ell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olumn in the Charts group on the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Clustered Colum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098AFF0-22C9-4FBD-9828-99115A99D31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900000" y="3846600"/>
            <a:ext cx="78962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Quick Layout down a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ools Design Ribbon, Chart Layout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chart title,                                 axis titles, and                            gri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8F7E586-6D1D-4B5A-ABF1-E1FC5C18E70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65160" y="3125880"/>
            <a:ext cx="8024760" cy="1339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4254480" y="4459320"/>
            <a:ext cx="3549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and Resize Char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pointer over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inter changes to a cross, click and drag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d drag lower right corner of the chart border to re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A1A3005-6C28-4B26-9815-A09664D5ABC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rt Ty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D7C05C6-B3B1-41A1-8E1B-6692CE6CC8B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183280" y="1581120"/>
            <a:ext cx="3591000" cy="227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31840" y="3608280"/>
            <a:ext cx="343548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5207040" y="3957480"/>
            <a:ext cx="3141720" cy="224640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3"/>
          <p:cNvCxnSpPr/>
          <p:nvPr/>
        </p:nvCxnSpPr>
        <p:spPr>
          <a:xfrm>
            <a:off x="3895200" y="1875960"/>
            <a:ext cx="1312200" cy="321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Straight Arrow Connector 9"/>
          <p:cNvCxnSpPr/>
          <p:nvPr/>
        </p:nvCxnSpPr>
        <p:spPr>
          <a:xfrm>
            <a:off x="3174480" y="3111480"/>
            <a:ext cx="2134440" cy="84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Straight Arrow Connector 10"/>
          <p:cNvCxnSpPr/>
          <p:nvPr/>
        </p:nvCxnSpPr>
        <p:spPr>
          <a:xfrm>
            <a:off x="3255480" y="2560680"/>
            <a:ext cx="105480" cy="104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4-05T14:59:43Z</dcterms:modified>
  <cp:revision>24</cp:revision>
  <dc:subject/>
  <dc:title>Slide 1</dc:title>
</cp:coreProperties>
</file>